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F9A-0025-4B72-A4E4-7B400EE5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9E2-683C-48B6-9FD8-A3F8E17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5BD-67CC-4A4E-BCB5-60F1EEE0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483-AE36-42F6-A984-BE07B00E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399-091E-4F21-AA47-BB71BC87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C5E-4683-4374-9BC0-CABD2DFF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B6A-AE85-4230-AC4A-02CF802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7CC-3AC4-4CB2-90B7-C55FC1F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D19-D42E-4ED8-9D74-313DD94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ADE-2CBE-4EBA-97CE-6C022F3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F01-8DE9-4F05-BB3C-A3392BD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398-1E64-419E-876D-2A12072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4F5C-722C-4E1D-AC98-E8A9559AD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Josh Lyon</cp:lastModifiedBy>
  <dcterms:modified xsi:type="dcterms:W3CDTF">2023-02-01T19:31:39Z</dcterms:modified>
  <cp:revision>8</cp:revision>
  <dc:subject/>
  <dc:title>PowerPoint Presentation</dc:title>
</cp:coreProperties>
</file>