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FB9-14B4-4B9A-8816-84118F08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C06-A153-46B9-BA16-A71BE96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02E-E720-4D6A-B120-C33E00E8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D9F-6B4C-40F2-BE2E-0D889E21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613-0EE4-41EA-B529-AA6316C1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14D-324B-4E58-B565-28E7962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D07-D5AF-4F3F-80F9-4AF1C92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469-E813-4181-AC4E-A3A9E71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119-862D-4B3B-A8E0-B28DBD3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311-6C2E-46DB-A8B5-CC73FAC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FC1-AC8A-4108-A9FE-61A9417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AFA-E7FA-4D23-93FD-F582693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28A-3339-4A29-96F8-1E5B5886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Josh Lyon</cp:lastModifiedBy>
  <dcterms:modified xsi:type="dcterms:W3CDTF">2023-02-01T19:31:39Z</dcterms:modified>
  <cp:revision>8</cp:revision>
  <dc:subject/>
  <dc:title>PowerPoint Presentation</dc:title>
</cp:coreProperties>
</file>