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988-96E6-449E-897B-C4E08BE0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CF0-AEE0-4BF4-B734-25D8A52E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A21-D05F-4A3C-A28B-12CD3BE3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B75-9ADD-4FD2-AC13-6D55CF94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7AD-8419-409F-BC01-DCBB1713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7F0-55B3-408C-AC8B-8176C0B9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5F4-7720-432F-A2FB-BD0A461A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AD3-98D7-4A85-9E9F-41909633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AD0-CD61-4C11-AA10-866861FB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362-8E9A-4625-8BFB-F5A12B4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893-CEA8-4468-88C5-097AA88D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307-6CF2-4F42-BADF-15A12083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BB811-A81F-44E4-87AA-818C3A7FA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9T04:21:35Z</dcterms:created>
  <dc:creator>Jon Rodda</dc:creator>
  <dc:description/>
  <dc:language>en-US</dc:language>
  <cp:lastModifiedBy>Jon Rodda</cp:lastModifiedBy>
  <dcterms:modified xsi:type="dcterms:W3CDTF">2021-08-19T04:23:37Z</dcterms:modified>
  <cp:revision>1</cp:revision>
  <dc:subject/>
  <dc:title>PowerPoint Presentation</dc:title>
</cp:coreProperties>
</file>