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2940-C26A-4207-96F1-65B8F717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18E-B281-4A8A-9262-294141C7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CB3-7510-4B88-9FE9-C11C9B82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AAE8-6C42-4DCF-ADDC-DBEFF509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1B6-918A-414F-9EA1-156EE2AC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D84-99DA-47C4-BA8B-94CF004A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2C0-CA13-48FD-8095-445EF497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4A20-88DE-4124-857B-F6E5FAB5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C243-F087-47CE-8FBC-3D6DCF96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36B4-21CA-456C-BE74-B63B353D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1CE7-115F-4463-9300-F0C0D4C4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CF52-61F0-4412-9551-E64FF458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76622-894A-4CFD-8BC4-F19FEF6397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C8EA5-376F-4BBE-8B53-8FB7B1810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538440" y="267984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4T13:31:00Z</dcterms:created>
  <dc:creator>Microsoft Office</dc:creator>
  <dc:description/>
  <dc:language>en-US</dc:language>
  <cp:lastModifiedBy>Kaitlin Redmond</cp:lastModifiedBy>
  <dcterms:modified xsi:type="dcterms:W3CDTF">2022-01-17T19:26:36Z</dcterms:modified>
  <cp:revision>41</cp:revision>
  <dc:subject/>
  <dc:title>PowerPoint Presentation</dc:title>
</cp:coreProperties>
</file>