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DF3-C4D6-4D7C-8385-1DD84FEC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A1F-3ED3-4D8E-A571-97EF9C38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C49-28B2-498A-88CD-A6395C47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ECA-CC49-415D-9F90-B4F0E58E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80D-FDB1-486C-81AE-629257F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07E-E499-40E1-9568-61E7882E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E33-91FD-491E-B164-B1BE664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595-BF49-46D6-A390-B58FE098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392-5678-46D0-8812-3E004C03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C9F-9225-47B5-9839-26AEA450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2F7-55B0-4716-AC04-45B95A1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4C7-B895-441F-850A-428C9834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61081-D584-474E-A561-04EDF1668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1-09-27T19:55:48Z</dcterms:modified>
  <cp:revision>2</cp:revision>
  <dc:subject/>
  <dc:title>PowerPoint Presentation</dc:title>
</cp:coreProperties>
</file>