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389-716C-4179-ACD1-E52F8F34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3A0-7C12-4E73-A65C-107F2A3A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85D-1ABD-446E-A19E-5E67673D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A33-910A-4D2A-B786-8A0885A1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C71-DF89-4C1D-A190-4B849A41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80A-EE4C-48C1-9C84-BA207A2F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5F0-C769-49DA-9964-4C33A15E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D72-48A0-4761-9799-9898C61C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EB3-A94B-4E3A-B22B-27430735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BD5-16DD-4720-8EE0-CC5E54F9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D11-FCD2-4F6C-B8C0-4A76EAA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B1D-5A61-430D-88C7-2997F08C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A18C1-0A54-4676-8C49-793B774C2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9T04:21:35Z</dcterms:created>
  <dc:creator>Jon Rodda</dc:creator>
  <dc:description/>
  <dc:language>en-US</dc:language>
  <cp:lastModifiedBy>Jon Rodda</cp:lastModifiedBy>
  <dcterms:modified xsi:type="dcterms:W3CDTF">2021-09-27T19:55:48Z</dcterms:modified>
  <cp:revision>2</cp:revision>
  <dc:subject/>
  <dc:title>PowerPoint Presentation</dc:title>
</cp:coreProperties>
</file>