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200-2BB4-4031-931F-643768CC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F5B-F442-4C78-84DB-0CEF1F6D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6B2-2D76-45FB-8AC0-E4E8656B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56B-FB26-4AE9-AF0C-9EC93025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AC8-D18F-4DC4-A08D-AEE2BC3C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62B-2373-4A50-97B0-00FE2CC5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A16-2F27-4C73-82ED-1236586A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B1A-5F1A-4865-B093-A5EBD06E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12C-6991-4B0A-BFFE-B13B1704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382-0040-47D6-A5EB-B6BAE37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7D2-4E08-48E7-910A-5C6EB5A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109-4ACF-4D41-8D63-C7C3691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F6FB8-36FC-487F-B490-8B15C7416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700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9T04:21:35Z</dcterms:created>
  <dc:creator>Jon Rodda</dc:creator>
  <dc:description/>
  <dc:language>en-US</dc:language>
  <cp:lastModifiedBy>Jon Rodda</cp:lastModifiedBy>
  <dcterms:modified xsi:type="dcterms:W3CDTF">2022-03-07T00:19:23Z</dcterms:modified>
  <cp:revision>4</cp:revision>
  <dc:subject/>
  <dc:title>PowerPoint Presentation</dc:title>
</cp:coreProperties>
</file>